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34B-670B-4D2D-B948-094D54FA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615-E16E-4FD9-B213-18B4F343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0A8-4006-4C11-B7B5-1885D2F8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AB5-3D9D-444F-A824-BD01152A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5FE-C19A-42E6-B3AC-0081A39B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AFA-0721-4932-8868-664CAEF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3B7-5B46-4CA2-8559-85AAE2E9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875-70A8-48E0-9032-C0D23BB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B1A-14F4-4B61-8743-5E76A39B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1CF-4841-4818-971D-8D1A27E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5D1-CA0C-40F4-B6AE-3C908211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C21-B461-42C7-8534-9C872E0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EB2-889B-46A5-AFAF-418ECC095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楞严咒念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云栖课本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楞严会上佛菩萨（三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湛总持不动尊　首楞严王世希有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销我亿劫颠倒想　不历僧祇获法身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今得果成宝王　还度如是恒沙众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将此深心奉尘刹　是则名为报佛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伏请世尊为证明　五浊恶世誓先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一众生未成佛　终不于此取泥洹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雄大力大慈悲　希更审除微细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令我早登无上觉　于十方界坐道场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舜若多性可销亡　烁迦罗心无动转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佛　南无常住十方法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僧　南无释迦牟尼佛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佛顶首楞严　南无观世音菩萨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金刚藏菩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尔时世尊，从肉髻中，涌百宝光。光中涌出，千叶宝莲。有化如来，坐宝华中。顶放十道，百宝光明。一一光明，皆 遍示现，十恒河沙，金刚密跡，擎山持杵，遍虚空界。大众 仰观，畏爱兼抱。求佛哀祐，一心听佛，无见顶相，放光如来，宣说神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逻啰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般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地目质多迦尸摩舍那　婆私你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吉质　萨埵婆写　么么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136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末怛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859280" y="5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4643280" y="47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1979640" y="4762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392436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47640" y="765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4643280" y="76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68360" y="148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五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1908000" y="206064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1835280" y="1989000"/>
            <a:ext cx="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5076720" y="602136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183528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"/>
          <p:cNvSpPr/>
          <p:nvPr/>
        </p:nvSpPr>
        <p:spPr>
          <a:xfrm>
            <a:off x="1547640" y="1989000"/>
            <a:ext cx="432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4"/>
          <p:cNvSpPr/>
          <p:nvPr/>
        </p:nvSpPr>
        <p:spPr>
          <a:xfrm>
            <a:off x="1474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161928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183528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1835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611280" y="2492280"/>
            <a:ext cx="1368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婆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娑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毖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略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布史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写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1619280" y="2708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>
            <a:off x="1187280" y="270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>
            <a:off x="1187280" y="29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>
            <a:off x="1403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>
            <a:off x="118728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>
            <a:off x="118728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>
            <a:off x="1187280" y="40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>
            <a:off x="1403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>
            <a:off x="140328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>
            <a:off x="1187280" y="486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187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1187280" y="5734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3"/>
          <p:cNvSpPr/>
          <p:nvPr/>
        </p:nvSpPr>
        <p:spPr>
          <a:xfrm>
            <a:off x="161928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2916360" y="1844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406728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6"/>
          <p:cNvSpPr/>
          <p:nvPr/>
        </p:nvSpPr>
        <p:spPr>
          <a:xfrm>
            <a:off x="349236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7"/>
          <p:cNvSpPr/>
          <p:nvPr/>
        </p:nvSpPr>
        <p:spPr>
          <a:xfrm>
            <a:off x="370836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370836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9"/>
          <p:cNvSpPr/>
          <p:nvPr/>
        </p:nvSpPr>
        <p:spPr>
          <a:xfrm>
            <a:off x="399564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0"/>
          <p:cNvSpPr/>
          <p:nvPr/>
        </p:nvSpPr>
        <p:spPr>
          <a:xfrm>
            <a:off x="399564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1"/>
          <p:cNvSpPr/>
          <p:nvPr/>
        </p:nvSpPr>
        <p:spPr>
          <a:xfrm>
            <a:off x="262728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2916360" y="2708280"/>
            <a:ext cx="194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刹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闭隸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怛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萨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宅袪革茶耆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唎佛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弥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471636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651640" y="184464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俱尼          姥陀啰难地迦阿蓝婆　       乾度波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5"/>
          <p:cNvSpPr/>
          <p:nvPr/>
        </p:nvSpPr>
        <p:spPr>
          <a:xfrm>
            <a:off x="4572000" y="2852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6"/>
          <p:cNvSpPr/>
          <p:nvPr/>
        </p:nvSpPr>
        <p:spPr>
          <a:xfrm>
            <a:off x="349236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7"/>
          <p:cNvSpPr/>
          <p:nvPr/>
        </p:nvSpPr>
        <p:spPr>
          <a:xfrm>
            <a:off x="378000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8"/>
          <p:cNvSpPr/>
          <p:nvPr/>
        </p:nvSpPr>
        <p:spPr>
          <a:xfrm>
            <a:off x="3780000" y="342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9"/>
          <p:cNvSpPr/>
          <p:nvPr/>
        </p:nvSpPr>
        <p:spPr>
          <a:xfrm>
            <a:off x="3708360" y="37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0"/>
          <p:cNvSpPr/>
          <p:nvPr/>
        </p:nvSpPr>
        <p:spPr>
          <a:xfrm>
            <a:off x="356400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1"/>
          <p:cNvSpPr/>
          <p:nvPr/>
        </p:nvSpPr>
        <p:spPr>
          <a:xfrm>
            <a:off x="3708360" y="429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2"/>
          <p:cNvSpPr/>
          <p:nvPr/>
        </p:nvSpPr>
        <p:spPr>
          <a:xfrm>
            <a:off x="3708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3"/>
          <p:cNvSpPr/>
          <p:nvPr/>
        </p:nvSpPr>
        <p:spPr>
          <a:xfrm>
            <a:off x="399564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4"/>
          <p:cNvSpPr/>
          <p:nvPr/>
        </p:nvSpPr>
        <p:spPr>
          <a:xfrm>
            <a:off x="3492360" y="51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5"/>
          <p:cNvSpPr/>
          <p:nvPr/>
        </p:nvSpPr>
        <p:spPr>
          <a:xfrm>
            <a:off x="421164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6"/>
          <p:cNvSpPr/>
          <p:nvPr/>
        </p:nvSpPr>
        <p:spPr>
          <a:xfrm>
            <a:off x="435600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7"/>
          <p:cNvSpPr/>
          <p:nvPr/>
        </p:nvSpPr>
        <p:spPr>
          <a:xfrm>
            <a:off x="370836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8"/>
          <p:cNvSpPr/>
          <p:nvPr/>
        </p:nvSpPr>
        <p:spPr>
          <a:xfrm>
            <a:off x="3708360" y="623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9"/>
          <p:cNvSpPr/>
          <p:nvPr/>
        </p:nvSpPr>
        <p:spPr>
          <a:xfrm>
            <a:off x="457200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0"/>
          <p:cNvSpPr/>
          <p:nvPr/>
        </p:nvSpPr>
        <p:spPr>
          <a:xfrm>
            <a:off x="7451640" y="2205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1"/>
          <p:cNvSpPr/>
          <p:nvPr/>
        </p:nvSpPr>
        <p:spPr>
          <a:xfrm>
            <a:off x="730872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3"/>
          <p:cNvSpPr/>
          <p:nvPr/>
        </p:nvSpPr>
        <p:spPr>
          <a:xfrm>
            <a:off x="6443640" y="198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4"/>
          <p:cNvSpPr/>
          <p:nvPr/>
        </p:nvSpPr>
        <p:spPr>
          <a:xfrm>
            <a:off x="709308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5"/>
          <p:cNvSpPr/>
          <p:nvPr/>
        </p:nvSpPr>
        <p:spPr>
          <a:xfrm>
            <a:off x="6443640" y="256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6"/>
          <p:cNvSpPr/>
          <p:nvPr/>
        </p:nvSpPr>
        <p:spPr>
          <a:xfrm>
            <a:off x="6659640" y="2852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7"/>
          <p:cNvSpPr/>
          <p:nvPr/>
        </p:nvSpPr>
        <p:spPr>
          <a:xfrm>
            <a:off x="7308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8"/>
          <p:cNvSpPr/>
          <p:nvPr/>
        </p:nvSpPr>
        <p:spPr>
          <a:xfrm>
            <a:off x="550872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9"/>
          <p:cNvSpPr/>
          <p:nvPr/>
        </p:nvSpPr>
        <p:spPr>
          <a:xfrm>
            <a:off x="5651640" y="2997360"/>
            <a:ext cx="165564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佛啰堙迦醯　坠帝药迦　  怛隸帝药  　者突託    　  昵提             毖钐摩      　薄底   　      鼻底   　      室隸瑟密                            　娑你般帝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1"/>
          <p:cNvSpPr/>
          <p:nvPr/>
        </p:nvSpPr>
        <p:spPr>
          <a:xfrm>
            <a:off x="5651640" y="57340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什伐啰　室嚧吉帝　末陀鞞达嚧制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2"/>
          <p:cNvSpPr/>
          <p:nvPr/>
        </p:nvSpPr>
        <p:spPr>
          <a:xfrm>
            <a:off x="658800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伐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3"/>
          <p:cNvSpPr/>
          <p:nvPr/>
        </p:nvSpPr>
        <p:spPr>
          <a:xfrm>
            <a:off x="630072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4"/>
          <p:cNvSpPr/>
          <p:nvPr/>
        </p:nvSpPr>
        <p:spPr>
          <a:xfrm>
            <a:off x="644364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5"/>
          <p:cNvSpPr/>
          <p:nvPr/>
        </p:nvSpPr>
        <p:spPr>
          <a:xfrm>
            <a:off x="658800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6"/>
          <p:cNvSpPr/>
          <p:nvPr/>
        </p:nvSpPr>
        <p:spPr>
          <a:xfrm>
            <a:off x="658800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7812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8"/>
          <p:cNvSpPr/>
          <p:nvPr/>
        </p:nvSpPr>
        <p:spPr>
          <a:xfrm>
            <a:off x="766764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9"/>
          <p:cNvSpPr/>
          <p:nvPr/>
        </p:nvSpPr>
        <p:spPr>
          <a:xfrm>
            <a:off x="7164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0"/>
          <p:cNvSpPr/>
          <p:nvPr/>
        </p:nvSpPr>
        <p:spPr>
          <a:xfrm>
            <a:off x="673272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1"/>
          <p:cNvSpPr/>
          <p:nvPr/>
        </p:nvSpPr>
        <p:spPr>
          <a:xfrm>
            <a:off x="6948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2"/>
          <p:cNvSpPr/>
          <p:nvPr/>
        </p:nvSpPr>
        <p:spPr>
          <a:xfrm>
            <a:off x="6516720" y="400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3"/>
          <p:cNvSpPr/>
          <p:nvPr/>
        </p:nvSpPr>
        <p:spPr>
          <a:xfrm>
            <a:off x="6227640" y="4797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4"/>
          <p:cNvSpPr/>
          <p:nvPr/>
        </p:nvSpPr>
        <p:spPr>
          <a:xfrm>
            <a:off x="6227640" y="508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5"/>
          <p:cNvSpPr/>
          <p:nvPr/>
        </p:nvSpPr>
        <p:spPr>
          <a:xfrm>
            <a:off x="665964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6"/>
          <p:cNvSpPr/>
          <p:nvPr/>
        </p:nvSpPr>
        <p:spPr>
          <a:xfrm>
            <a:off x="665964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97"/>
          <p:cNvSpPr/>
          <p:nvPr/>
        </p:nvSpPr>
        <p:spPr>
          <a:xfrm>
            <a:off x="7667640" y="44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98"/>
          <p:cNvSpPr/>
          <p:nvPr/>
        </p:nvSpPr>
        <p:spPr>
          <a:xfrm>
            <a:off x="270036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99"/>
          <p:cNvSpPr/>
          <p:nvPr/>
        </p:nvSpPr>
        <p:spPr>
          <a:xfrm>
            <a:off x="558000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阿绮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目佉   　羯唎突</a:t>
            </a:r>
            <a:br>
              <a:rPr sz="16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232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惮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迄唎夜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么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唎室婆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栗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悉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邬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喝悉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房盎伽般啰丈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979640" y="54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嚧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183528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1403280" y="47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403280" y="76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1547640" y="10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1835280" y="76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84360" y="112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揭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270036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2"/>
          <p:cNvSpPr/>
          <p:nvPr/>
        </p:nvSpPr>
        <p:spPr>
          <a:xfrm flipV="1">
            <a:off x="2843280" y="1557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00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1332000" y="4869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"/>
          <p:cNvSpPr/>
          <p:nvPr/>
        </p:nvSpPr>
        <p:spPr>
          <a:xfrm>
            <a:off x="1547640" y="458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1332000" y="4292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"/>
          <p:cNvSpPr/>
          <p:nvPr/>
        </p:nvSpPr>
        <p:spPr>
          <a:xfrm>
            <a:off x="1332000" y="40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154764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9"/>
          <p:cNvSpPr/>
          <p:nvPr/>
        </p:nvSpPr>
        <p:spPr>
          <a:xfrm>
            <a:off x="1332000" y="35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0"/>
          <p:cNvSpPr/>
          <p:nvPr/>
        </p:nvSpPr>
        <p:spPr>
          <a:xfrm>
            <a:off x="1547640" y="321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1763640" y="29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1763640" y="2708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33200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1547640" y="2133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1332000" y="1844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1332000" y="1557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8"/>
          <p:cNvSpPr/>
          <p:nvPr/>
        </p:nvSpPr>
        <p:spPr>
          <a:xfrm>
            <a:off x="284328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755640" y="5210280"/>
            <a:ext cx="3024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部多毖跢茶　茶耆尼什婆啰　陀突嚧迦建咄嚧吉知婆路多毗　萨般嚧诃凌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>
            <a:off x="421164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414036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4356000" y="260280"/>
            <a:ext cx="20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沙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那羯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喻                                                             阿耆尼乌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啰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密唎咄怛敛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栗剌吒毖唎瑟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那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3"/>
          <p:cNvSpPr/>
          <p:nvPr/>
        </p:nvSpPr>
        <p:spPr>
          <a:xfrm>
            <a:off x="687708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6948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5"/>
          <p:cNvSpPr/>
          <p:nvPr/>
        </p:nvSpPr>
        <p:spPr>
          <a:xfrm>
            <a:off x="5148360" y="47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6"/>
          <p:cNvSpPr/>
          <p:nvPr/>
        </p:nvSpPr>
        <p:spPr>
          <a:xfrm>
            <a:off x="536400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7"/>
          <p:cNvSpPr/>
          <p:nvPr/>
        </p:nvSpPr>
        <p:spPr>
          <a:xfrm>
            <a:off x="5219640" y="98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8"/>
          <p:cNvSpPr/>
          <p:nvPr/>
        </p:nvSpPr>
        <p:spPr>
          <a:xfrm>
            <a:off x="5651640" y="126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9"/>
          <p:cNvSpPr/>
          <p:nvPr/>
        </p:nvSpPr>
        <p:spPr>
          <a:xfrm>
            <a:off x="5148360" y="155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0"/>
          <p:cNvSpPr/>
          <p:nvPr/>
        </p:nvSpPr>
        <p:spPr>
          <a:xfrm>
            <a:off x="4932360" y="184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1"/>
          <p:cNvSpPr/>
          <p:nvPr/>
        </p:nvSpPr>
        <p:spPr>
          <a:xfrm>
            <a:off x="493236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5867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3"/>
          <p:cNvSpPr/>
          <p:nvPr/>
        </p:nvSpPr>
        <p:spPr>
          <a:xfrm>
            <a:off x="5435640" y="29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6227640" y="47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5"/>
          <p:cNvSpPr/>
          <p:nvPr/>
        </p:nvSpPr>
        <p:spPr>
          <a:xfrm>
            <a:off x="6227640" y="765000"/>
            <a:ext cx="8654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6"/>
          <p:cNvSpPr/>
          <p:nvPr/>
        </p:nvSpPr>
        <p:spPr>
          <a:xfrm>
            <a:off x="6300720" y="981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7"/>
          <p:cNvSpPr/>
          <p:nvPr/>
        </p:nvSpPr>
        <p:spPr>
          <a:xfrm>
            <a:off x="6227640" y="1268280"/>
            <a:ext cx="865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8"/>
          <p:cNvSpPr/>
          <p:nvPr/>
        </p:nvSpPr>
        <p:spPr>
          <a:xfrm flipV="1">
            <a:off x="6227640" y="119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9"/>
          <p:cNvSpPr/>
          <p:nvPr/>
        </p:nvSpPr>
        <p:spPr>
          <a:xfrm flipV="1">
            <a:off x="6227640" y="1267920"/>
            <a:ext cx="865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50"/>
          <p:cNvSpPr/>
          <p:nvPr/>
        </p:nvSpPr>
        <p:spPr>
          <a:xfrm flipV="1">
            <a:off x="6227640" y="134100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1"/>
          <p:cNvSpPr/>
          <p:nvPr/>
        </p:nvSpPr>
        <p:spPr>
          <a:xfrm flipV="1">
            <a:off x="6300720" y="2349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2"/>
          <p:cNvSpPr/>
          <p:nvPr/>
        </p:nvSpPr>
        <p:spPr>
          <a:xfrm flipV="1">
            <a:off x="6227640" y="2276280"/>
            <a:ext cx="865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3"/>
          <p:cNvSpPr/>
          <p:nvPr/>
        </p:nvSpPr>
        <p:spPr>
          <a:xfrm flipV="1">
            <a:off x="6300720" y="1413000"/>
            <a:ext cx="8636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4"/>
          <p:cNvSpPr/>
          <p:nvPr/>
        </p:nvSpPr>
        <p:spPr>
          <a:xfrm>
            <a:off x="4356000" y="299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肆引伽弊揭啰唎药叉怛啰刍  末啰视吠帝钐娑鞞钐　悉怛多钵怛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5"/>
          <p:cNvSpPr/>
          <p:nvPr/>
        </p:nvSpPr>
        <p:spPr>
          <a:xfrm>
            <a:off x="5508720" y="35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嚧瑟尼钐　般赖丈耆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2"/>
          <p:cNvSpPr/>
          <p:nvPr/>
        </p:nvSpPr>
        <p:spPr>
          <a:xfrm>
            <a:off x="6640560" y="4835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5"/>
          <p:cNvSpPr/>
          <p:nvPr/>
        </p:nvSpPr>
        <p:spPr>
          <a:xfrm>
            <a:off x="4140360" y="4149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夜波突陀舍喻阇那　辫怛隸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9"/>
          <p:cNvSpPr/>
          <p:nvPr/>
        </p:nvSpPr>
        <p:spPr>
          <a:xfrm>
            <a:off x="7575480" y="3755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1"/>
          <p:cNvSpPr/>
          <p:nvPr/>
        </p:nvSpPr>
        <p:spPr>
          <a:xfrm>
            <a:off x="4356000" y="37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2"/>
          <p:cNvSpPr/>
          <p:nvPr/>
        </p:nvSpPr>
        <p:spPr>
          <a:xfrm>
            <a:off x="5219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3"/>
          <p:cNvSpPr/>
          <p:nvPr/>
        </p:nvSpPr>
        <p:spPr>
          <a:xfrm>
            <a:off x="5219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4"/>
          <p:cNvSpPr/>
          <p:nvPr/>
        </p:nvSpPr>
        <p:spPr>
          <a:xfrm>
            <a:off x="521964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5"/>
          <p:cNvSpPr/>
          <p:nvPr/>
        </p:nvSpPr>
        <p:spPr>
          <a:xfrm>
            <a:off x="500364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6"/>
          <p:cNvSpPr/>
          <p:nvPr/>
        </p:nvSpPr>
        <p:spPr>
          <a:xfrm>
            <a:off x="4427640" y="443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　帝殊　  般啰毗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7"/>
          <p:cNvSpPr/>
          <p:nvPr/>
        </p:nvSpPr>
        <p:spPr>
          <a:xfrm>
            <a:off x="5724360" y="465300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槃昙迦嚧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8"/>
          <p:cNvSpPr/>
          <p:nvPr/>
        </p:nvSpPr>
        <p:spPr>
          <a:xfrm>
            <a:off x="4356000" y="530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跢姪他　唵　阿那隸　毗舍提　鞞啰跋阇啰陀唎　槃陀槃陀你　跋阇啰谤尼泮　虎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都嚧甕泮　莎婆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565164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80"/>
          <p:cNvSpPr/>
          <p:nvPr/>
        </p:nvSpPr>
        <p:spPr>
          <a:xfrm>
            <a:off x="521964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1"/>
          <p:cNvSpPr/>
          <p:nvPr/>
        </p:nvSpPr>
        <p:spPr>
          <a:xfrm>
            <a:off x="5076720" y="486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2"/>
          <p:cNvSpPr/>
          <p:nvPr/>
        </p:nvSpPr>
        <p:spPr>
          <a:xfrm>
            <a:off x="543564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3"/>
          <p:cNvSpPr/>
          <p:nvPr/>
        </p:nvSpPr>
        <p:spPr>
          <a:xfrm>
            <a:off x="5651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5" descr=""/>
          <p:cNvPicPr/>
          <p:nvPr/>
        </p:nvPicPr>
        <p:blipFill>
          <a:blip r:embed="rId1"/>
          <a:stretch/>
        </p:blipFill>
        <p:spPr>
          <a:xfrm>
            <a:off x="4643280" y="5950080"/>
            <a:ext cx="23832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547200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怛他苏伽多耶阿啰诃帝三藐三菩陀写　　　　　　　　　　　　　　　萨怛他佛陀俱胝瑟尼钐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勃陀勃地萨跢鞞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多南三藐三菩陀俱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舍啰婆迦僧伽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阿罗汉跢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卢多波那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羯唎陁伽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三藐伽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藐伽婆啰底波多那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婆离瑟赧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陁耶毗地耶陀啰离瑟赧　舍波奴揭啰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诃娑啰摩他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诃摩泥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因陀啰耶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陀啰耶　乌摩般帝　娑醯夜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野拏耶　槃遮摩诃三慕陀啰　南无悉羯唎多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耶　地唎般剌那伽啰　毗陀啰波拏迦啰耶　阿地目帝　尸摩舍那泥婆悉泥　摩怛唎伽拏　南无 悉羯唎多耶　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00364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1763640" y="76500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1763640" y="76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47636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1763640" y="126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176364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176364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176364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176364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176364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763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1763640" y="45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176364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76364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4788000" y="155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4427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3708360" y="184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3419640" y="21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327672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3419640" y="2708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3492360" y="292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1"/>
          <p:cNvSpPr/>
          <p:nvPr/>
        </p:nvSpPr>
        <p:spPr>
          <a:xfrm>
            <a:off x="478800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1476360" y="184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900000" y="38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4"/>
          <p:cNvSpPr/>
          <p:nvPr/>
        </p:nvSpPr>
        <p:spPr>
          <a:xfrm>
            <a:off x="176364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900000" y="47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176364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7"/>
          <p:cNvSpPr/>
          <p:nvPr/>
        </p:nvSpPr>
        <p:spPr>
          <a:xfrm>
            <a:off x="1763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"/>
          <p:cNvSpPr/>
          <p:nvPr/>
        </p:nvSpPr>
        <p:spPr>
          <a:xfrm>
            <a:off x="1763640" y="4869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147636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0"/>
          <p:cNvSpPr/>
          <p:nvPr/>
        </p:nvSpPr>
        <p:spPr>
          <a:xfrm>
            <a:off x="161928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1"/>
          <p:cNvSpPr/>
          <p:nvPr/>
        </p:nvSpPr>
        <p:spPr>
          <a:xfrm>
            <a:off x="4140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684360" y="26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一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161928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4"/>
          <p:cNvSpPr/>
          <p:nvPr/>
        </p:nvSpPr>
        <p:spPr>
          <a:xfrm>
            <a:off x="1476360" y="551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692000" y="-360"/>
            <a:ext cx="55436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他伽跢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头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阇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唎茶输啰西那  波啰诃啰拏啰阇耶  跢他伽多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阿弥多婆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刍鞞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鞞沙阇耶俱卢吠柱唎耶 般啰婆啰阇耶 跢他伽多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补师毖多　萨怜捺啰剌阇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鸡野母那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怛那鸡都啰阇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126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92360" y="9079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11280" y="692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11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411280" y="98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2411280" y="126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411280" y="155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2268360" y="112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85128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俱啰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564000" y="40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334800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341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320364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203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3564000" y="98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7020000" y="2060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跢他伽多耶 阿啰诃帝 三藐三菩陀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1547640" y="40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1547640" y="40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154764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1547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154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154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154764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154764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>
            <a:off x="1547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6948360" y="206064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3492360" y="2060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2771640" y="2349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4788000" y="29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3203640" y="321300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3635280" y="35002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6948360" y="29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0"/>
          <p:cNvSpPr/>
          <p:nvPr/>
        </p:nvSpPr>
        <p:spPr>
          <a:xfrm flipV="1">
            <a:off x="702000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7020000" y="227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2"/>
          <p:cNvSpPr/>
          <p:nvPr/>
        </p:nvSpPr>
        <p:spPr>
          <a:xfrm>
            <a:off x="1187280" y="21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118728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539640" y="3645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瓢南无萨羯唎多　翳昙婆伽婆多　萨怛他伽都瑟尼钐　萨怛多般怛蓝　南无阿婆啰视耽　般啰帝扬岐啰　萨啰婆部多揭啰诃　尼揭啰诃羯迦逻诃尼　跋啰毖地耶叱陀你　阿迦啰密唎柱　般唎怛啰耶儜揭唎　萨啰婆槃陀那目叉尼　萨啰婆突瑟吒　突悉乏般那你伐啰尼  赭都啰失帝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>
            <a:off x="2700360" y="40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5640" y="3333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诃娑诃萨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娑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冰舍帝南 那叉刹怛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萨陀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南　摩诃羯啰诃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萨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舍都嚧你婆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呼蓝突悉乏难遮那舍尼 毖沙舍悉怛啰　阿吉尼乌陀迦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般啰视多具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85928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若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85928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556000" y="47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050920" y="76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780000" y="105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2050920" y="134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320364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050920" y="1916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2771640" y="220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41964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154764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3851280" y="476280"/>
            <a:ext cx="10810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3851280" y="765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3851280" y="105264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 flipV="1">
            <a:off x="3851280" y="1196640"/>
            <a:ext cx="10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3851280" y="162864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 flipV="1">
            <a:off x="3851280" y="126828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3851280" y="220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 flipV="1">
            <a:off x="3851280" y="220464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0" y="465228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唎耶多啰　毗唎俱知　誓婆毗阇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755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176364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叠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1763640" y="32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啰战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1763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76364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阇婆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1763640" y="43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槃陀啰婆悉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>
            <a:off x="1547640" y="3429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1547640" y="3716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>
            <a:off x="1547640" y="40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>
            <a:off x="154764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1547640" y="458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125892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1763640" y="4941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礼底　毗舍嚧多　勃腾罔迦　制喝那阿遮　摩啰制婆般啰质多　擅持　毗舍啰遮　扇多舍鞞提婆补视多 苏摩嚧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755640" y="522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169236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1692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>
            <a:off x="169236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16923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>
            <a:off x="1547640" y="5445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02920" y="981000"/>
            <a:ext cx="6697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商羯啰制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俱摩唎　俱蓝陀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喝萨多遮　毗地耶乾遮那摩唎迦　啒苏母婆羯啰跢那　鞞嚧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那俱唎耶　夜啰菟瑟尼钐　毗折蓝婆摩尼遮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那迦波啰婆　嚧阇那跋阇啰顿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税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摩啰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刹奢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波啰婆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翳帝夷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母陀啰羯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娑鞞啰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掘梵都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54764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　阿唎耶多啰　婆啰阿般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11280" y="47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140328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403280" y="5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1187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4360" y="126828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1258920" y="1125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258920" y="220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1258920" y="112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1258920" y="14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1258920" y="1700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1116000" y="1628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1116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900000" y="213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90000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539640" y="26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二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755640" y="3284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403280" y="299736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瞻婆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耽婆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瑟地耶三般叉拏羯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药叉喝啰刹娑　揭啰诃若阇    毗腾崩萨那羯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尸底南　揭啰诃娑诃萨啰南    毗腾崩萨那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　婆伽梵　萨怛他伽都瑟尼钐　波啰点阇吉唎      摩诃娑诃萨啰　勃树娑诃萨啰室唎沙　俱知娑诃萨泥帝隸　阿弊提视婆唎多　吒吒甖迦　摩诃跋阇嚧陀啰　帝唎菩婆那　曼茶啰　乌　娑悉帝薄婆都　么么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611280" y="3429000"/>
            <a:ext cx="3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虎    都嚧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258920" y="342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1258920" y="3429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1258920" y="3716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1258920" y="40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1258920" y="4292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125892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1258920" y="47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111600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1116000" y="4005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826920" y="49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82692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238320" cy="199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2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7960" cy="200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3" descr=""/>
          <p:cNvPicPr/>
          <p:nvPr/>
        </p:nvPicPr>
        <p:blipFill>
          <a:blip r:embed="rId3"/>
          <a:stretch/>
        </p:blipFill>
        <p:spPr>
          <a:xfrm>
            <a:off x="1692360" y="5589720"/>
            <a:ext cx="237960" cy="19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4"/>
          <p:cNvSpPr/>
          <p:nvPr/>
        </p:nvSpPr>
        <p:spPr>
          <a:xfrm>
            <a:off x="324000" y="292428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　 唎瑟揭拏　般剌舍悉多　萨怛他伽都瑟尼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 flipV="1">
            <a:off x="8269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266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阇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啰夜阿祇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迦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萨多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斫羯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舍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啰密唎柱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陀啰尼部弥剑波伽波陁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啰迦婆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阇檀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条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波啰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964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三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41964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3276720" y="141300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258920" y="1413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2124000" y="1700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258920" y="22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169236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1979640" y="2852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1476360" y="32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147636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219564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3059280" y="414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908000" y="4437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1692360" y="47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1258920" y="501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147636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69236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327672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572000" y="476280"/>
            <a:ext cx="25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私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唎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檀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唎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72360" y="21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644364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457200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45720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457200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4572000" y="50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忙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4572000" y="530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谜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457200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622764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5148360" y="62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536400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>
            <a:off x="5364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5364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>
            <a:off x="5148360" y="1773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0"/>
          <p:cNvSpPr/>
          <p:nvPr/>
        </p:nvSpPr>
        <p:spPr>
          <a:xfrm>
            <a:off x="5364000" y="20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536400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2"/>
          <p:cNvSpPr/>
          <p:nvPr/>
        </p:nvSpPr>
        <p:spPr>
          <a:xfrm>
            <a:off x="5867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3"/>
          <p:cNvSpPr/>
          <p:nvPr/>
        </p:nvSpPr>
        <p:spPr>
          <a:xfrm>
            <a:off x="536400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4"/>
          <p:cNvSpPr/>
          <p:nvPr/>
        </p:nvSpPr>
        <p:spPr>
          <a:xfrm>
            <a:off x="579600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5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6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7"/>
          <p:cNvSpPr/>
          <p:nvPr/>
        </p:nvSpPr>
        <p:spPr>
          <a:xfrm>
            <a:off x="5580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8"/>
          <p:cNvSpPr/>
          <p:nvPr/>
        </p:nvSpPr>
        <p:spPr>
          <a:xfrm>
            <a:off x="622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9"/>
          <p:cNvSpPr/>
          <p:nvPr/>
        </p:nvSpPr>
        <p:spPr>
          <a:xfrm>
            <a:off x="6227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0"/>
          <p:cNvSpPr/>
          <p:nvPr/>
        </p:nvSpPr>
        <p:spPr>
          <a:xfrm>
            <a:off x="5148360" y="429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1"/>
          <p:cNvSpPr/>
          <p:nvPr/>
        </p:nvSpPr>
        <p:spPr>
          <a:xfrm>
            <a:off x="5148360" y="465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536400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3"/>
          <p:cNvSpPr/>
          <p:nvPr/>
        </p:nvSpPr>
        <p:spPr>
          <a:xfrm>
            <a:off x="5148360" y="522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4"/>
          <p:cNvSpPr/>
          <p:nvPr/>
        </p:nvSpPr>
        <p:spPr>
          <a:xfrm>
            <a:off x="5148360" y="5516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>
            <a:off x="5148360" y="5805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>
            <a:off x="6227640" y="50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>
            <a:off x="414036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8"/>
          <p:cNvSpPr/>
          <p:nvPr/>
        </p:nvSpPr>
        <p:spPr>
          <a:xfrm>
            <a:off x="421164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3600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8436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48436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187280" y="404640"/>
            <a:ext cx="136872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1332000" y="76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1116000" y="836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1116000" y="907560"/>
            <a:ext cx="1440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1403280" y="162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V="1">
            <a:off x="1116000" y="170028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39640" y="1989000"/>
            <a:ext cx="49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唎跋啰者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茶演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般输般怛夜　嚧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夜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埵伽嚧茶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摩怛唎伽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波唎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萨婆啰他娑达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赭咄啰婆耆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唎羊讫唎知　难陀鸡沙啰伽拏般帝  索醯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揭那舍啰婆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罗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啰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波你　具醯夜具醯夜　迦地般帝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罔　婆伽梵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5867280" y="37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讫唎担　毗陀夜阇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39640" y="26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3964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比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539640" y="83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39640" y="1125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539640" y="14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输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539640" y="17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39640" y="19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钐萨鞞钐  萨婆揭啰诃南  毗陀夜阇  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5508720" y="242100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2050920" y="242100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1332000" y="27082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6"/>
          <p:cNvSpPr/>
          <p:nvPr/>
        </p:nvSpPr>
        <p:spPr>
          <a:xfrm>
            <a:off x="3203640" y="29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8"/>
          <p:cNvSpPr/>
          <p:nvPr/>
        </p:nvSpPr>
        <p:spPr>
          <a:xfrm>
            <a:off x="2050920" y="357336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270036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1547640" y="414972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284720" y="44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2"/>
          <p:cNvSpPr/>
          <p:nvPr/>
        </p:nvSpPr>
        <p:spPr>
          <a:xfrm>
            <a:off x="2050920" y="472428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514836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2268360" y="522936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1332000" y="5516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6"/>
          <p:cNvSpPr/>
          <p:nvPr/>
        </p:nvSpPr>
        <p:spPr>
          <a:xfrm>
            <a:off x="161928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7"/>
          <p:cNvSpPr/>
          <p:nvPr/>
        </p:nvSpPr>
        <p:spPr>
          <a:xfrm>
            <a:off x="4572000" y="609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8"/>
          <p:cNvSpPr/>
          <p:nvPr/>
        </p:nvSpPr>
        <p:spPr>
          <a:xfrm>
            <a:off x="5508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四会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伽梵　萨怛多般怛啰　南无粹都帝　阿悉多那啰剌迦　波啰婆悉普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迦萨怛多 钵帝唎　什佛啰  什佛啰　陀啰陀啰　频陀啰   频陀啰  瞋陀瞋陀　虎　     虎　     泮吒　泮吒   泮吒   泮吒   泮吒　娑诃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醯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牟迦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波啰提诃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波啰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素啰毗陀啰波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635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349236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1908000" y="162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34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771640" y="220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556000" y="2492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203640" y="27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1547640" y="29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鞞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61128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356400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547280" y="3499920"/>
            <a:ext cx="20876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闼婆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狼枳帝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澀比嚟讫瑟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婆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啰婆拏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5580000" y="29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140328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140328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140328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140328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140328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>
            <a:off x="140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6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>
            <a:off x="140328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>
            <a:off x="140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1403280" y="609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0"/>
          <p:cNvSpPr/>
          <p:nvPr/>
        </p:nvSpPr>
        <p:spPr>
          <a:xfrm>
            <a:off x="349236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2124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>
            <a:off x="2195640" y="3429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3"/>
          <p:cNvSpPr/>
          <p:nvPr/>
        </p:nvSpPr>
        <p:spPr>
          <a:xfrm>
            <a:off x="2195640" y="3716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4"/>
          <p:cNvSpPr/>
          <p:nvPr/>
        </p:nvSpPr>
        <p:spPr>
          <a:xfrm>
            <a:off x="2411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2411280" y="4292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2700360" y="486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>
            <a:off x="327672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2411280" y="54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0"/>
          <p:cNvSpPr/>
          <p:nvPr/>
        </p:nvSpPr>
        <p:spPr>
          <a:xfrm>
            <a:off x="2843280" y="5805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700360" y="609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3492360" y="45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6"/>
          <p:cNvSpPr/>
          <p:nvPr/>
        </p:nvSpPr>
        <p:spPr>
          <a:xfrm>
            <a:off x="1187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7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238320" cy="200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8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2383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244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帝鸡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摩陀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啰誓遮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他娑陀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地夜遮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缚耆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俱摩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夜啰誓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波啰丁羊乂耆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995640" y="9079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39640" y="907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1187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1187280" y="47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1187280" y="83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1187280" y="112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0"/>
          <p:cNvSpPr/>
          <p:nvPr/>
        </p:nvSpPr>
        <p:spPr>
          <a:xfrm>
            <a:off x="1187280" y="17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3635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2050920" y="47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2268360" y="83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>
            <a:off x="2987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2556000" y="17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>
            <a:off x="3492360" y="1125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399564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3635280" y="198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2556000" y="1989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277164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2484360" y="29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41964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4"/>
          <p:cNvSpPr/>
          <p:nvPr/>
        </p:nvSpPr>
        <p:spPr>
          <a:xfrm>
            <a:off x="363528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1258920" y="3429000"/>
            <a:ext cx="50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商羯啰夜    波啰丈耆啰阇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1258920" y="3716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夜 摩诃末怛唎迦拏 南无娑羯唎多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630072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9"/>
          <p:cNvSpPr/>
          <p:nvPr/>
        </p:nvSpPr>
        <p:spPr>
          <a:xfrm>
            <a:off x="4859280" y="3573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5867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1"/>
          <p:cNvSpPr/>
          <p:nvPr/>
        </p:nvSpPr>
        <p:spPr>
          <a:xfrm>
            <a:off x="6156360" y="3573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2"/>
          <p:cNvSpPr/>
          <p:nvPr/>
        </p:nvSpPr>
        <p:spPr>
          <a:xfrm>
            <a:off x="615636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258560" y="4220640"/>
            <a:ext cx="13683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瑟拏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勃啰诃牟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耆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羯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檀迟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蔑怛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遮文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99564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5"/>
          <p:cNvSpPr/>
          <p:nvPr/>
        </p:nvSpPr>
        <p:spPr>
          <a:xfrm>
            <a:off x="3635280" y="429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6"/>
          <p:cNvSpPr/>
          <p:nvPr/>
        </p:nvSpPr>
        <p:spPr>
          <a:xfrm>
            <a:off x="2340000" y="429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7"/>
          <p:cNvSpPr/>
          <p:nvPr/>
        </p:nvSpPr>
        <p:spPr>
          <a:xfrm>
            <a:off x="2556000" y="4581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8"/>
          <p:cNvSpPr/>
          <p:nvPr/>
        </p:nvSpPr>
        <p:spPr>
          <a:xfrm>
            <a:off x="2050920" y="48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9"/>
          <p:cNvSpPr/>
          <p:nvPr/>
        </p:nvSpPr>
        <p:spPr>
          <a:xfrm>
            <a:off x="2268360" y="51577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0"/>
          <p:cNvSpPr/>
          <p:nvPr/>
        </p:nvSpPr>
        <p:spPr>
          <a:xfrm>
            <a:off x="2268360" y="54450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1"/>
          <p:cNvSpPr/>
          <p:nvPr/>
        </p:nvSpPr>
        <p:spPr>
          <a:xfrm>
            <a:off x="205092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2"/>
          <p:cNvSpPr/>
          <p:nvPr/>
        </p:nvSpPr>
        <p:spPr>
          <a:xfrm>
            <a:off x="2050920" y="59500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3"/>
          <p:cNvSpPr/>
          <p:nvPr/>
        </p:nvSpPr>
        <p:spPr>
          <a:xfrm>
            <a:off x="2050920" y="623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4"/>
          <p:cNvSpPr/>
          <p:nvPr/>
        </p:nvSpPr>
        <p:spPr>
          <a:xfrm>
            <a:off x="363528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5"/>
          <p:cNvSpPr/>
          <p:nvPr/>
        </p:nvSpPr>
        <p:spPr>
          <a:xfrm>
            <a:off x="1116000" y="112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5:17:12Z</dcterms:created>
  <dc:creator>*</dc:creator>
  <dc:description/>
  <dc:language>en-US</dc:language>
  <cp:lastModifiedBy>微软用户</cp:lastModifiedBy>
  <dcterms:modified xsi:type="dcterms:W3CDTF">2012-01-06T13:04:28Z</dcterms:modified>
  <cp:revision>43</cp:revision>
  <dc:subject/>
  <dc:title>萨怛他苏伽多耶阿啰诃帝三藐三菩陀写　　　　　　　　　　　　　　　萨怛他佛陀俱胝瑟尼钐　南无 萨婆勃陀勃地萨跢鞞弊　南无 萨多南三藐三菩陀俱知喃　 娑舍啰婆迦僧伽喃　南无 卢鸡阿罗汉跢喃　南无 苏卢多波那喃　南无娑羯唎陁伽弥喃　南无 卢鸡三藐伽跢喃　 三藐伽婆啰底波多那喃　南无 提婆离瑟赧　南无 悉陁耶毗地耶陀啰离瑟赧　舍波奴揭啰诃 娑诃娑啰摩他喃　南无跋啰诃摩泥 </dc:title>
</cp:coreProperties>
</file>